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90160" y="693720"/>
            <a:ext cx="4627800" cy="347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ts val="25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23760" y="4397040"/>
            <a:ext cx="516096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2"/>
          </p:nvPr>
        </p:nvSpPr>
        <p:spPr>
          <a:xfrm>
            <a:off x="4005000" y="879444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FuturaA Bk BT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AD4BA-F2DC-4731-BCB7-03872EDC67A9}" type="slidenum">
              <a:rPr b="0" lang="en-US" sz="1000" spc="-1" strike="noStrike">
                <a:solidFill>
                  <a:srgbClr val="000000"/>
                </a:solidFill>
                <a:latin typeface="FuturaA Bk BT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005360" y="879480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8248C8-77F0-4895-82B6-85F6188C3FCF}" type="slidenum">
              <a:rPr b="0" lang="en-US" sz="1000" spc="-1" strike="noStrike">
                <a:solidFill>
                  <a:srgbClr val="000000"/>
                </a:solidFill>
                <a:latin typeface="FuturaA Bk BT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005360" y="879480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A952B8-B0FF-43C9-8D5B-587C184F44F3}" type="slidenum">
              <a:rPr b="0" lang="en-US" sz="1000" spc="-1" strike="noStrike">
                <a:solidFill>
                  <a:srgbClr val="000000"/>
                </a:solidFill>
                <a:latin typeface="FuturaA Bk BT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24B0-BABF-44F3-8D63-76F2826BB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8227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6400" y="3544560"/>
            <a:ext cx="8227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BBED-9233-4FFB-A5D3-EDAD87B61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82720" y="11811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6400" y="35445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2720" y="35445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7616-B14B-4A3A-93C1-9C8AD8E79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48480" y="118116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30560" y="118116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66400" y="354456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48480" y="354456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30560" y="354456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1234-94F8-4235-AD6C-56FFE4F4D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66400" y="118116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82720" y="118116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30200" y="69840"/>
            <a:ext cx="825336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ts val="2387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82720" y="118116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6400" y="35445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66400" y="118116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60D0-C949-4D27-9A69-6A446C127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82720" y="11811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82720" y="35445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2720" y="11811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6400" y="3544560"/>
            <a:ext cx="8227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8227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66400" y="3544560"/>
            <a:ext cx="8227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82720" y="11811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6400" y="35445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82720" y="35445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48480" y="118116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30560" y="118116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66400" y="354456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48480" y="354456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30560" y="354456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A67A-97B1-4B24-804B-A91CE16BE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2720" y="118116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592C-3FD2-4263-A02E-3E056750D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2E25-51A3-45D3-A6E5-B350D8C02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30200" y="69840"/>
            <a:ext cx="825336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ts val="2387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A1D2-B8C4-4BD9-B2B5-570DD880E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82720" y="118116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66400" y="35445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4A35-631F-4D0C-B6E5-BE58C8328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82720" y="11811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82720" y="35445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3DFE-8517-4AFA-9613-E2609F9DA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400" y="11811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2720" y="118116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400" y="3544560"/>
            <a:ext cx="8227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77A1-33FF-45D3-9267-385B8A811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0200" y="69840"/>
            <a:ext cx="82533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66400" y="118116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ts val="2387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ts val="2387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ts val="2387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ts val="2387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ts val="2387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ts val="2387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55320" y="6273360"/>
            <a:ext cx="3190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ge </a:t>
            </a:r>
            <a:fld id="{9CC5A4D3-3706-4B78-A89B-A5507B0F3EE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|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97160" y="6499080"/>
            <a:ext cx="28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All Rights Reserved © 2010 Alcatel-Lucen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21959" r="0" b="18995"/>
          <a:stretch/>
        </p:blipFill>
        <p:spPr>
          <a:xfrm>
            <a:off x="7467480" y="6469200"/>
            <a:ext cx="1538280" cy="315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346" t="333" r="0" b="0"/>
          <a:stretch/>
        </p:blipFill>
        <p:spPr>
          <a:xfrm>
            <a:off x="6865920" y="2217600"/>
            <a:ext cx="2278080" cy="237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2746080"/>
            <a:ext cx="625644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87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ts val="2387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ts val="2387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ts val="2387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ts val="2387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ts val="2387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ts val="2387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7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640" y="2746080"/>
            <a:ext cx="84823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986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rebuchet MS"/>
              </a:rPr>
              <a:t>MIKEY-IBAKE and</a:t>
            </a:r>
            <a:br>
              <a:rPr sz="4800"/>
            </a:br>
            <a:r>
              <a:rPr b="0" lang="en-US" sz="4800" spc="-1" strike="noStrike">
                <a:solidFill>
                  <a:srgbClr val="0000ff"/>
                </a:solidFill>
                <a:latin typeface="Trebuchet MS"/>
              </a:rPr>
              <a:t>LI Approaches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9840" y="69840"/>
            <a:ext cx="82551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6680" indent="-166680">
              <a:lnSpc>
                <a:spcPts val="2387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ultiple LI approaches for MIKEY-IBAK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06440" indent="-238320">
              <a:lnSpc>
                <a:spcPts val="2387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ll approaches satisfy LI requirements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relating to the use of operator applied encryption as specified in TS 33.106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06440" indent="-238320">
              <a:lnSpc>
                <a:spcPts val="2387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fferent approaches result in different properti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0644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0644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DB66-6A4D-4039-8705-1D70508D6536}" type="slidenum">
              <a:t>10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9840" y="69840"/>
            <a:ext cx="82551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6440" indent="-238320">
              <a:lnSpc>
                <a:spcPts val="2387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IKEY-IBAKE was included in TR 33.829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the last SA3 meet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06440" indent="-238320">
              <a:lnSpc>
                <a:spcPts val="2387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G approach for LI for MIKEY-IBAKE was discussed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the last SA3 LI meet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573120" indent="-165240">
              <a:lnSpc>
                <a:spcPts val="1987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pen issues discussed in a separate contribu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06440" indent="-238320">
              <a:lnSpc>
                <a:spcPts val="2387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s contribution discusses several available alternatives for LI with MIKEY-IBAK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2322-F5A0-4AF5-914B-A901A76271F8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9840" y="69840"/>
            <a:ext cx="82551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Discovery of MIKEY-IBAKE Session Key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59320" indent="-4459320">
              <a:lnSpc>
                <a:spcPts val="2387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690200"/>
                <a:tab algn="l" pos="11604600"/>
                <a:tab algn="l" pos="12519000"/>
                <a:tab algn="l" pos="13433400"/>
                <a:tab algn="l" pos="1434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IKEY-IBAKE session key SK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11200" indent="-343080">
              <a:lnSpc>
                <a:spcPts val="2387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690200"/>
                <a:tab algn="l" pos="11604600"/>
                <a:tab algn="l" pos="12519000"/>
                <a:tab algn="l" pos="13433400"/>
                <a:tab algn="l" pos="1434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K =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xy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712800" indent="-304920">
              <a:lnSpc>
                <a:spcPts val="1987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690200"/>
                <a:tab algn="l" pos="11604600"/>
                <a:tab algn="l" pos="12519000"/>
                <a:tab algn="l" pos="13433400"/>
                <a:tab algn="l" pos="14347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 is known point on a known elliptic curv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712800" indent="-304920">
              <a:lnSpc>
                <a:spcPts val="1987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690200"/>
                <a:tab algn="l" pos="11604600"/>
                <a:tab algn="l" pos="12519000"/>
                <a:tab algn="l" pos="13433400"/>
                <a:tab algn="l" pos="143478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are random numbers generated at A and B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603440" indent="-266760">
              <a:lnSpc>
                <a:spcPts val="1386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690200"/>
                <a:tab algn="l" pos="11604600"/>
                <a:tab algn="l" pos="12519000"/>
                <a:tab algn="l" pos="13433400"/>
                <a:tab algn="l" pos="1434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and y are known only to A and B, resp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12800" indent="-304920">
              <a:lnSpc>
                <a:spcPts val="1987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690200"/>
                <a:tab algn="l" pos="11604600"/>
                <a:tab algn="l" pos="12519000"/>
                <a:tab algn="l" pos="13433400"/>
                <a:tab algn="l" pos="14347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BE encrypted Key Components xP and yP are exchanged between A and B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712800" indent="-304920">
              <a:lnSpc>
                <a:spcPts val="1987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690200"/>
                <a:tab algn="l" pos="11604600"/>
                <a:tab algn="l" pos="12519000"/>
                <a:tab algn="l" pos="13433400"/>
                <a:tab algn="l" pos="14347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 and B decrypt received Key Components and compute SK = x*yP = y*xP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51120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690200"/>
                <a:tab algn="l" pos="11604600"/>
                <a:tab algn="l" pos="12519000"/>
                <a:tab algn="l" pos="13433400"/>
                <a:tab algn="l" pos="1434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ultiple ways to obtain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and/or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11200" indent="-343080">
              <a:lnSpc>
                <a:spcPts val="2387"/>
              </a:lnSpc>
              <a:spcAft>
                <a:spcPts val="1199"/>
              </a:spcAft>
              <a:buClr>
                <a:srgbClr val="969696"/>
              </a:buClr>
              <a:buFont typeface="Trebuchet MS"/>
              <a:buAutoNum type="arabicPeriod"/>
              <a:tabLst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690200"/>
                <a:tab algn="l" pos="11604600"/>
                <a:tab algn="l" pos="12519000"/>
                <a:tab algn="l" pos="13433400"/>
                <a:tab algn="l" pos="1434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-generate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and/or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11200" indent="-343080">
              <a:lnSpc>
                <a:spcPts val="2387"/>
              </a:lnSpc>
              <a:spcAft>
                <a:spcPts val="1199"/>
              </a:spcAft>
              <a:buClr>
                <a:srgbClr val="969696"/>
              </a:buClr>
              <a:buFont typeface="Trebuchet MS"/>
              <a:buAutoNum type="arabicPeriod"/>
              <a:tabLst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690200"/>
                <a:tab algn="l" pos="11604600"/>
                <a:tab algn="l" pos="12519000"/>
                <a:tab algn="l" pos="13433400"/>
                <a:tab algn="l" pos="1434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xchange encrypted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x/y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during MIKEY-IBAKE exchan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1120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5203800"/>
                <a:tab algn="l" pos="6118200"/>
                <a:tab algn="l" pos="7032600"/>
                <a:tab algn="l" pos="7947000"/>
                <a:tab algn="l" pos="8861400"/>
                <a:tab algn="l" pos="9775800"/>
                <a:tab algn="l" pos="10690200"/>
                <a:tab algn="l" pos="11604600"/>
                <a:tab algn="l" pos="12519000"/>
                <a:tab algn="l" pos="13433400"/>
                <a:tab algn="l" pos="143478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F63E-505B-4816-9B3E-C87F52717147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9840" y="69840"/>
            <a:ext cx="82551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LI approaches for MIKEY-IBA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6680" indent="-166680">
              <a:lnSpc>
                <a:spcPts val="2387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ased on MIKEY-IBAKE use case scenarios there are multiple ways to perform Lawful Intercept for MIKEY-IBAK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06440" indent="-238320">
              <a:lnSpc>
                <a:spcPts val="2387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solidated PRG approach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06440" indent="-238320">
              <a:lnSpc>
                <a:spcPts val="2387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lit PRG approach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06440" indent="-238320">
              <a:lnSpc>
                <a:spcPts val="2387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solidated nonce approach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06440" indent="-238320">
              <a:lnSpc>
                <a:spcPts val="2387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lit nonce approach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66680" indent="0">
              <a:lnSpc>
                <a:spcPts val="2387"/>
              </a:lnSpc>
              <a:spcAft>
                <a:spcPts val="11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fferent approaches resulting from different deployment scenarios provide different properties (e.g., elimination of key escrow, perfect forward secrecy, etc.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CC13-619A-4B71-93CE-3848F76EE8F4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H="1" flipV="1">
            <a:off x="1471320" y="3477960"/>
            <a:ext cx="460440" cy="307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7600" y="69840"/>
            <a:ext cx="87501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A. Consolidated PRG Approach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100240" y="4535640"/>
            <a:ext cx="858960" cy="1175400"/>
            <a:chOff x="2100240" y="4535640"/>
            <a:chExt cx="858960" cy="11754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2100240" y="4535640"/>
              <a:ext cx="85896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471040" y="5464080"/>
              <a:ext cx="2185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27240" y="1109520"/>
            <a:ext cx="601920" cy="601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994120" y="1800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753320" y="4479840"/>
            <a:ext cx="858960" cy="1175760"/>
            <a:chOff x="7753320" y="4479840"/>
            <a:chExt cx="858960" cy="117576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7753320" y="4479840"/>
              <a:ext cx="85896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8151120" y="5408640"/>
              <a:ext cx="1652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967120" y="4608360"/>
            <a:ext cx="4759200" cy="471600"/>
          </a:xfrm>
          <a:prstGeom prst="leftRightArrow">
            <a:avLst>
              <a:gd name="adj1" fmla="val 50000"/>
              <a:gd name="adj2" fmla="val 200898"/>
            </a:avLst>
          </a:prstGeom>
          <a:solidFill>
            <a:srgbClr val="00b5dd"/>
          </a:solidFill>
          <a:ln w="19080">
            <a:solidFill>
              <a:srgbClr val="00b5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MIKEY-IB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5200" y="3697200"/>
            <a:ext cx="1319400" cy="151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97320" y="4057560"/>
            <a:ext cx="732240" cy="337320"/>
          </a:xfrm>
          <a:prstGeom prst="rect">
            <a:avLst/>
          </a:prstGeom>
          <a:solidFill>
            <a:srgbClr val="bcb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S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138400" y="1122480"/>
            <a:ext cx="614160" cy="614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00080" y="1725480"/>
            <a:ext cx="10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r’s Datab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03640" y="1092240"/>
            <a:ext cx="4824360" cy="2394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9000" bIns="0" anchor="ctr">
            <a:noAutofit/>
          </a:bodyPr>
          <a:p>
            <a:pPr marL="343080" indent="-34164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 55 Roman"/>
                <a:ea typeface="Arial"/>
              </a:rPr>
              <a:t>Random Secret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PRG seeds 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Frutiger 55 Roman"/>
                <a:ea typeface="Arial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/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Frutiger 55 Roman"/>
                <a:ea typeface="Arial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 are pre-provisioned in a mobile and Provider’s Database consolidated with K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Secret </a:t>
            </a:r>
            <a:r>
              <a:rPr b="1" i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x/y</a:t>
            </a: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 is generated using PRG of Seed </a:t>
            </a:r>
            <a:r>
              <a:rPr b="1" lang="en-US" sz="1200" spc="-1" strike="noStrike">
                <a:solidFill>
                  <a:srgbClr val="f70018"/>
                </a:solidFill>
                <a:latin typeface="Frutiger 55 Roman"/>
                <a:ea typeface="Arial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 and a Time Stamp</a:t>
            </a:r>
            <a:r>
              <a:rPr b="1" lang="en-US" sz="1200" spc="-1" strike="noStrike">
                <a:solidFill>
                  <a:srgbClr val="f70018"/>
                </a:solidFill>
                <a:latin typeface="Frutiger 55 Roman"/>
                <a:ea typeface="Arial"/>
              </a:rPr>
              <a:t> T </a:t>
            </a: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of the first MIKEY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ssion Key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DF sends MIKEY-IBAKE messages to KMS and requests Session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KMS re-generates the random secret, decrypts MIKEY messages to obtain the key components, and computes the Session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983120" y="3798720"/>
            <a:ext cx="263520" cy="554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65440" y="1054080"/>
            <a:ext cx="2019240" cy="1193760"/>
          </a:xfrm>
          <a:prstGeom prst="rect">
            <a:avLst/>
          </a:prstGeom>
          <a:noFill/>
          <a:ln w="28440">
            <a:solidFill>
              <a:srgbClr val="f7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18000" y="5773680"/>
            <a:ext cx="1316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= PRG(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95560" y="5748480"/>
            <a:ext cx="1315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= PRG(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1560" y="37828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581280"/>
            <a:ext cx="1155600" cy="546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21120" y="3745080"/>
            <a:ext cx="639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DM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2984400"/>
            <a:ext cx="1663560" cy="1016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0720" y="3822840"/>
            <a:ext cx="16635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58720" y="2959200"/>
            <a:ext cx="447480" cy="330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63840" y="3276720"/>
            <a:ext cx="1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2679840"/>
            <a:ext cx="113004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4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Deli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387520" y="2220480"/>
            <a:ext cx="419040" cy="460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44640" y="315432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8120" y="2984400"/>
            <a:ext cx="1663560" cy="1016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1080" y="4024440"/>
            <a:ext cx="3765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1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10240" y="3300480"/>
            <a:ext cx="3765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1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8000" y="3110040"/>
            <a:ext cx="257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8880" y="2335320"/>
            <a:ext cx="253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CCA7-5332-4736-B340-86AE85BC470A}" type="slidenum">
              <a:t>5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H="1" flipV="1">
            <a:off x="1471320" y="3477960"/>
            <a:ext cx="460440" cy="307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7600" y="69840"/>
            <a:ext cx="87501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B. Split PRG Approach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00240" y="4535640"/>
            <a:ext cx="858960" cy="1175400"/>
            <a:chOff x="2100240" y="4535640"/>
            <a:chExt cx="858960" cy="11754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2100240" y="4535640"/>
              <a:ext cx="85896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471040" y="5464080"/>
              <a:ext cx="2185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027240" y="1109520"/>
            <a:ext cx="601920" cy="601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94120" y="1800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753320" y="4479840"/>
            <a:ext cx="858960" cy="1175760"/>
            <a:chOff x="7753320" y="4479840"/>
            <a:chExt cx="858960" cy="117576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7753320" y="4479840"/>
              <a:ext cx="85896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151120" y="5408640"/>
              <a:ext cx="1652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67120" y="4608360"/>
            <a:ext cx="4759200" cy="471600"/>
          </a:xfrm>
          <a:prstGeom prst="leftRightArrow">
            <a:avLst>
              <a:gd name="adj1" fmla="val 50000"/>
              <a:gd name="adj2" fmla="val 200898"/>
            </a:avLst>
          </a:prstGeom>
          <a:solidFill>
            <a:srgbClr val="00b5dd"/>
          </a:solidFill>
          <a:ln w="19080">
            <a:solidFill>
              <a:srgbClr val="00b5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MIKEY-IB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05200" y="3697200"/>
            <a:ext cx="1319400" cy="151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97320" y="4057560"/>
            <a:ext cx="732240" cy="337320"/>
          </a:xfrm>
          <a:prstGeom prst="rect">
            <a:avLst/>
          </a:prstGeom>
          <a:solidFill>
            <a:srgbClr val="bcb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S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325520" y="1122480"/>
            <a:ext cx="614520" cy="614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87560" y="171288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r’s Datab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91040" y="965160"/>
            <a:ext cx="4824360" cy="2622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9000" bIns="0" anchor="ctr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andom Secret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PRG seeds 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Frutiger 55 Roman"/>
                <a:ea typeface="Arial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/S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Frutiger 55 Roman"/>
                <a:ea typeface="Arial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 are pre-provisioned in a mobile and Provider’s data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utiger 55 Roman"/>
                <a:ea typeface="Arial"/>
              </a:rPr>
              <a:t>Illustration above shows Provider’s Database split from K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Secret </a:t>
            </a:r>
            <a:r>
              <a:rPr b="1" i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x/y</a:t>
            </a: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 is generated by PRG using Seed </a:t>
            </a:r>
            <a:r>
              <a:rPr b="1" lang="en-US" sz="1200" spc="-1" strike="noStrike">
                <a:solidFill>
                  <a:srgbClr val="cc0033"/>
                </a:solidFill>
                <a:latin typeface="Frutiger 55 Roman"/>
                <a:ea typeface="Arial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 and a Time Stamp </a:t>
            </a:r>
            <a:r>
              <a:rPr b="1" lang="en-US" sz="1200" spc="-1" strike="noStrike">
                <a:solidFill>
                  <a:srgbClr val="cc0033"/>
                </a:solidFill>
                <a:latin typeface="Frutiger 55 Roman"/>
                <a:ea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ssion Key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DF obtains target’s secret x or y from Provider’s Database and target's IBE Private Key from K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DF uses IBE Private Key to decrypt MIKEY-IBAKE messages and obtain missing Key Compon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Using Key Component and Target’s secret, the DF generates the session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983120" y="3798720"/>
            <a:ext cx="263520" cy="554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52560" y="952560"/>
            <a:ext cx="1117440" cy="1295280"/>
          </a:xfrm>
          <a:prstGeom prst="rect">
            <a:avLst/>
          </a:prstGeom>
          <a:noFill/>
          <a:ln w="28440">
            <a:solidFill>
              <a:srgbClr val="f7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18000" y="5773680"/>
            <a:ext cx="1316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= PRG(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95560" y="5748480"/>
            <a:ext cx="1315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= PRG(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1560" y="37828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581280"/>
            <a:ext cx="1155600" cy="546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21120" y="3745080"/>
            <a:ext cx="639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DM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2984400"/>
            <a:ext cx="1663560" cy="1016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60720" y="3822840"/>
            <a:ext cx="16635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458720" y="2959200"/>
            <a:ext cx="447480" cy="330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63840" y="3276720"/>
            <a:ext cx="1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2679840"/>
            <a:ext cx="113004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4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Deli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387520" y="2220480"/>
            <a:ext cx="419040" cy="460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944640" y="315432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8120" y="2984400"/>
            <a:ext cx="1663560" cy="1016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31080" y="4024440"/>
            <a:ext cx="3765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1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10240" y="3300480"/>
            <a:ext cx="3765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1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08000" y="3110040"/>
            <a:ext cx="257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880" y="2335320"/>
            <a:ext cx="253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03520" y="939960"/>
            <a:ext cx="1117440" cy="1295280"/>
          </a:xfrm>
          <a:prstGeom prst="rect">
            <a:avLst/>
          </a:prstGeom>
          <a:noFill/>
          <a:ln w="28440">
            <a:solidFill>
              <a:srgbClr val="f7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738080" y="2259000"/>
            <a:ext cx="549000" cy="434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65BA-F30A-433C-A570-87B4939D6248}" type="slidenum">
              <a:t>6</a:t>
            </a:fld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9840" y="69840"/>
            <a:ext cx="82551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Nonce-Based Approa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74760" y="2986200"/>
            <a:ext cx="700200" cy="698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66920" y="3670200"/>
            <a:ext cx="1494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Mincho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413400" y="3054240"/>
            <a:ext cx="700200" cy="698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81760" y="3735360"/>
            <a:ext cx="1494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Mincho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031160" y="3478320"/>
            <a:ext cx="334800" cy="172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741320" y="3478320"/>
            <a:ext cx="354240" cy="172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106720" y="1400040"/>
            <a:ext cx="309600" cy="190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046840" y="1378080"/>
            <a:ext cx="280800" cy="218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667960" y="1393920"/>
            <a:ext cx="1731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Public key of A (PUB_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41560" y="1400040"/>
            <a:ext cx="1734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Public key of B (PUB_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74880" y="2797200"/>
            <a:ext cx="3556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42840" y="2514600"/>
            <a:ext cx="233316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A, B, </a:t>
            </a:r>
            <a:r>
              <a:rPr b="1" i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IBE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(A|B|</a:t>
            </a:r>
            <a:r>
              <a:rPr b="1" i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P|</a:t>
            </a:r>
            <a:r>
              <a:rPr b="1" lang="en-US" sz="1200" spc="-1" strike="noStrike">
                <a:solidFill>
                  <a:srgbClr val="009900"/>
                </a:solidFill>
                <a:latin typeface="Trebuchet MS"/>
                <a:ea typeface="MS Mincho"/>
              </a:rPr>
              <a:t>A_Nonce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)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rebuchet MS"/>
                <a:ea typeface="MS Mincho"/>
              </a:rPr>
              <a:t>PUB_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4400" y="2217600"/>
            <a:ext cx="1808280" cy="938520"/>
          </a:xfrm>
          <a:prstGeom prst="cloudCallout">
            <a:avLst>
              <a:gd name="adj1" fmla="val 60449"/>
              <a:gd name="adj2" fmla="val 9222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Chooses random </a:t>
            </a:r>
            <a:r>
              <a:rPr b="0" i="1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x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and computes </a:t>
            </a:r>
            <a:r>
              <a:rPr b="0" i="1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x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Computes A_No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85000" y="2043000"/>
            <a:ext cx="2016000" cy="1260720"/>
          </a:xfrm>
          <a:prstGeom prst="cloudCallout">
            <a:avLst>
              <a:gd name="adj1" fmla="val -61495"/>
              <a:gd name="adj2" fmla="val 629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Decrypts the message using PR_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Chooses random </a:t>
            </a:r>
            <a:r>
              <a:rPr b="0" i="1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y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and computes </a:t>
            </a:r>
            <a:r>
              <a:rPr b="0" i="1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y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Computes B_No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74880" y="3087720"/>
            <a:ext cx="356076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43880" y="2851200"/>
            <a:ext cx="3328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B, A,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IBE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(B|A|</a:t>
            </a:r>
            <a:r>
              <a:rPr b="1" i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P|</a:t>
            </a:r>
            <a:r>
              <a:rPr b="1" i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P|</a:t>
            </a:r>
            <a:r>
              <a:rPr b="1" lang="en-US" sz="1200" spc="-1" strike="noStrike">
                <a:solidFill>
                  <a:srgbClr val="009900"/>
                </a:solidFill>
                <a:latin typeface="Trebuchet MS"/>
                <a:ea typeface="MS Mincho"/>
              </a:rPr>
              <a:t>A_Nonce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|</a:t>
            </a:r>
            <a:r>
              <a:rPr b="1" lang="en-US" sz="1200" spc="-1" strike="noStrike">
                <a:solidFill>
                  <a:srgbClr val="e33689"/>
                </a:solidFill>
                <a:latin typeface="Trebuchet MS"/>
                <a:ea typeface="MS Mincho"/>
              </a:rPr>
              <a:t>B_Nonce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)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rebuchet MS"/>
                <a:ea typeface="MS Mincho"/>
              </a:rPr>
              <a:t>PUB_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74960" y="3443400"/>
            <a:ext cx="34606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73080" y="3220920"/>
            <a:ext cx="232596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A, B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, </a:t>
            </a:r>
            <a:r>
              <a:rPr b="1" i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IBE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(A|B|</a:t>
            </a:r>
            <a:r>
              <a:rPr b="1" i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P|</a:t>
            </a:r>
            <a:r>
              <a:rPr b="1" lang="en-US" sz="1200" spc="-1" strike="noStrike">
                <a:solidFill>
                  <a:srgbClr val="e33689"/>
                </a:solidFill>
                <a:latin typeface="Trebuchet MS"/>
                <a:ea typeface="MS Mincho"/>
              </a:rPr>
              <a:t>B_Nonce</a:t>
            </a: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)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rebuchet MS"/>
                <a:ea typeface="MS Mincho"/>
              </a:rPr>
              <a:t>PUB_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30520" y="3865680"/>
            <a:ext cx="1563480" cy="884160"/>
          </a:xfrm>
          <a:prstGeom prst="cloudCallout">
            <a:avLst>
              <a:gd name="adj1" fmla="val 18731"/>
              <a:gd name="adj2" fmla="val -13168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MS Mincho"/>
              </a:rPr>
              <a:t>Decrypts the message using PR_A and verifies received x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22480" y="3803760"/>
            <a:ext cx="34020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85800" y="3575160"/>
            <a:ext cx="9406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Ver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755720" y="3246480"/>
            <a:ext cx="308160" cy="189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7070760" y="3222720"/>
            <a:ext cx="280800" cy="218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2066760" y="1665360"/>
            <a:ext cx="354240" cy="172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710440" y="1658880"/>
            <a:ext cx="167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Private key of A (PR_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4280" y="1657440"/>
            <a:ext cx="1682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Private key of B (PR_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0"/>
          <a:stretch/>
        </p:blipFill>
        <p:spPr>
          <a:xfrm>
            <a:off x="5032440" y="1646280"/>
            <a:ext cx="334800" cy="173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050920" y="1987920"/>
            <a:ext cx="52297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P 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   -    Public parameter: a publicly </a:t>
            </a:r>
            <a:r>
              <a:rPr b="0" i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known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 point on a </a:t>
            </a:r>
            <a:r>
              <a:rPr b="0" i="1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known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 elliptic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7400" y="4989600"/>
            <a:ext cx="7569360" cy="11095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9000" bIns="0" anchor="ctr">
            <a:noAutofit/>
          </a:bodyPr>
          <a:p>
            <a:pPr lvl="1" marL="800280" indent="-341640"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Trebuchet MS"/>
                <a:ea typeface="WenQuanYi Micro Hei"/>
              </a:rPr>
              <a:t>A_Nonce == AES</a:t>
            </a:r>
            <a:r>
              <a:rPr b="1" lang="en-US" sz="1600" spc="-1" strike="noStrike" baseline="-25000">
                <a:solidFill>
                  <a:srgbClr val="404040"/>
                </a:solidFill>
                <a:latin typeface="Trebuchet MS"/>
                <a:ea typeface="WenQuanYi Micro Hei"/>
              </a:rPr>
              <a:t>A_MASTERSECRET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  <a:ea typeface="WenQuanYi Micro Hei"/>
              </a:rPr>
              <a:t>(</a:t>
            </a:r>
            <a:r>
              <a:rPr b="1" i="1" lang="en-US" sz="1600" spc="-1" strike="noStrike">
                <a:solidFill>
                  <a:srgbClr val="404040"/>
                </a:solidFill>
                <a:latin typeface="Trebuchet MS"/>
                <a:ea typeface="WenQuanYi Micro Hei"/>
              </a:rPr>
              <a:t>x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  <a:ea typeface="WenQuanYi Micro He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1640"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Trebuchet MS"/>
                <a:ea typeface="WenQuanYi Micro Hei"/>
              </a:rPr>
              <a:t>B_Nonce == AES</a:t>
            </a:r>
            <a:r>
              <a:rPr b="1" lang="en-US" sz="1600" spc="-1" strike="noStrike" baseline="-25000">
                <a:solidFill>
                  <a:srgbClr val="404040"/>
                </a:solidFill>
                <a:latin typeface="Trebuchet MS"/>
                <a:ea typeface="WenQuanYi Micro Hei"/>
              </a:rPr>
              <a:t>B_MASTERSECRE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rebuchet MS"/>
                <a:ea typeface="WenQuanYi Micro Hei"/>
              </a:rPr>
              <a:t> 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  <a:ea typeface="WenQuanYi Micro Hei"/>
              </a:rPr>
              <a:t>(</a:t>
            </a:r>
            <a:r>
              <a:rPr b="1" i="1" lang="en-US" sz="1600" spc="-1" strike="noStrike">
                <a:solidFill>
                  <a:srgbClr val="404040"/>
                </a:solidFill>
                <a:latin typeface="Trebuchet MS"/>
                <a:ea typeface="WenQuanYi Micro Hei"/>
              </a:rPr>
              <a:t>y</a:t>
            </a:r>
            <a:r>
              <a:rPr b="1" lang="en-US" sz="1600" spc="-1" strike="noStrike">
                <a:solidFill>
                  <a:srgbClr val="404040"/>
                </a:solidFill>
                <a:latin typeface="Trebuchet MS"/>
                <a:ea typeface="WenQuanYi Micro He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1640"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Trebuchet MS"/>
                <a:ea typeface="WenQuanYi Micro Hei"/>
              </a:rPr>
              <a:t>Corresponding nodes treat Nonces simply as random Cook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19240" y="1054080"/>
            <a:ext cx="455760" cy="227160"/>
            <a:chOff x="2019240" y="1054080"/>
            <a:chExt cx="455760" cy="227160"/>
          </a:xfrm>
        </p:grpSpPr>
        <p:sp>
          <p:nvSpPr>
            <p:cNvPr id="204" name=""/>
            <p:cNvSpPr/>
            <p:nvPr/>
          </p:nvSpPr>
          <p:spPr>
            <a:xfrm>
              <a:off x="2019240" y="1060560"/>
              <a:ext cx="453960" cy="220680"/>
            </a:xfr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21040" y="1054080"/>
              <a:ext cx="453960" cy="220680"/>
            </a:xfr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095560" y="1076400"/>
              <a:ext cx="44280" cy="166680"/>
              <a:chOff x="2095560" y="1076400"/>
              <a:chExt cx="44280" cy="166680"/>
            </a:xfrm>
          </p:grpSpPr>
          <p:sp>
            <p:nvSpPr>
              <p:cNvPr id="207" name=""/>
              <p:cNvSpPr/>
              <p:nvPr/>
            </p:nvSpPr>
            <p:spPr>
              <a:xfrm>
                <a:off x="2095560" y="1089000"/>
                <a:ext cx="44280" cy="154080"/>
              </a:xfr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95560" y="1076400"/>
                <a:ext cx="44280" cy="154080"/>
              </a:xfr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084400" y="1071720"/>
              <a:ext cx="19080" cy="183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73240" y="1093680"/>
              <a:ext cx="19080" cy="142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155680" y="1069920"/>
              <a:ext cx="318960" cy="185760"/>
              <a:chOff x="2155680" y="1069920"/>
              <a:chExt cx="318960" cy="185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217600" y="1170000"/>
                <a:ext cx="244440" cy="360"/>
              </a:xfr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25520" y="1141560"/>
                <a:ext cx="238320" cy="14040"/>
              </a:xfr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2155680" y="1069920"/>
                <a:ext cx="318960" cy="185760"/>
                <a:chOff x="2155680" y="1069920"/>
                <a:chExt cx="318960" cy="185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155680" y="1069920"/>
                  <a:ext cx="19080" cy="18576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184480" y="1104840"/>
                  <a:ext cx="19080" cy="1112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225880" y="1143000"/>
                  <a:ext cx="248760" cy="14400"/>
                </a:xfr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216160" y="1111320"/>
                  <a:ext cx="30240" cy="96840"/>
                </a:xfr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166840" y="1089000"/>
                  <a:ext cx="20880" cy="146160"/>
                </a:xfr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" name=""/>
          <p:cNvGrpSpPr/>
          <p:nvPr/>
        </p:nvGrpSpPr>
        <p:grpSpPr>
          <a:xfrm>
            <a:off x="4965840" y="1028880"/>
            <a:ext cx="455400" cy="226800"/>
            <a:chOff x="4965840" y="1028880"/>
            <a:chExt cx="455400" cy="226800"/>
          </a:xfrm>
        </p:grpSpPr>
        <p:sp>
          <p:nvSpPr>
            <p:cNvPr id="221" name=""/>
            <p:cNvSpPr/>
            <p:nvPr/>
          </p:nvSpPr>
          <p:spPr>
            <a:xfrm>
              <a:off x="4965840" y="1035000"/>
              <a:ext cx="453960" cy="220680"/>
            </a:xfrm>
            <a:solidFill>
              <a:srgbClr val="e33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67280" y="1028880"/>
              <a:ext cx="453960" cy="220320"/>
            </a:xfrm>
            <a:solidFill>
              <a:srgbClr val="e33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043600" y="1050840"/>
              <a:ext cx="44280" cy="166680"/>
              <a:chOff x="5043600" y="1050840"/>
              <a:chExt cx="44280" cy="166680"/>
            </a:xfrm>
          </p:grpSpPr>
          <p:sp>
            <p:nvSpPr>
              <p:cNvPr id="224" name=""/>
              <p:cNvSpPr/>
              <p:nvPr/>
            </p:nvSpPr>
            <p:spPr>
              <a:xfrm>
                <a:off x="5043600" y="1063800"/>
                <a:ext cx="44280" cy="153720"/>
              </a:xfrm>
              <a:solidFill>
                <a:srgbClr val="e33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043600" y="1050840"/>
                <a:ext cx="44280" cy="154080"/>
              </a:xfrm>
              <a:solidFill>
                <a:srgbClr val="e33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030640" y="1046160"/>
              <a:ext cx="19080" cy="184320"/>
            </a:xfrm>
            <a:prstGeom prst="rect">
              <a:avLst/>
            </a:prstGeom>
            <a:solidFill>
              <a:srgbClr val="e33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19840" y="1068480"/>
              <a:ext cx="18720" cy="142920"/>
            </a:xfrm>
            <a:prstGeom prst="rect">
              <a:avLst/>
            </a:prstGeom>
            <a:solidFill>
              <a:srgbClr val="e33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102280" y="1044720"/>
              <a:ext cx="318600" cy="185760"/>
              <a:chOff x="5102280" y="1044720"/>
              <a:chExt cx="318600" cy="185760"/>
            </a:xfrm>
          </p:grpSpPr>
          <p:sp>
            <p:nvSpPr>
              <p:cNvPr id="229" name=""/>
              <p:cNvSpPr/>
              <p:nvPr/>
            </p:nvSpPr>
            <p:spPr>
              <a:xfrm>
                <a:off x="5164200" y="1144440"/>
                <a:ext cx="244440" cy="360"/>
              </a:xfrm>
              <a:solidFill>
                <a:srgbClr val="e33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72120" y="1116000"/>
                <a:ext cx="237960" cy="14400"/>
              </a:xfrm>
              <a:solidFill>
                <a:srgbClr val="e33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5102280" y="1044720"/>
                <a:ext cx="318600" cy="185760"/>
                <a:chOff x="5102280" y="1044720"/>
                <a:chExt cx="318600" cy="1857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102280" y="1044720"/>
                  <a:ext cx="19080" cy="185760"/>
                </a:xfrm>
                <a:prstGeom prst="rect">
                  <a:avLst/>
                </a:prstGeom>
                <a:solidFill>
                  <a:srgbClr val="e336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130720" y="1081080"/>
                  <a:ext cx="19080" cy="111240"/>
                </a:xfrm>
                <a:prstGeom prst="rect">
                  <a:avLst/>
                </a:prstGeom>
                <a:solidFill>
                  <a:srgbClr val="e336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172120" y="1119240"/>
                  <a:ext cx="248760" cy="14400"/>
                </a:xfrm>
                <a:solidFill>
                  <a:srgbClr val="e336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162400" y="1087560"/>
                  <a:ext cx="30240" cy="96840"/>
                </a:xfrm>
                <a:solidFill>
                  <a:srgbClr val="e336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113440" y="1063800"/>
                  <a:ext cx="20520" cy="145800"/>
                </a:xfrm>
                <a:solidFill>
                  <a:srgbClr val="e336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7" name=""/>
          <p:cNvGrpSpPr/>
          <p:nvPr/>
        </p:nvGrpSpPr>
        <p:grpSpPr>
          <a:xfrm>
            <a:off x="1320840" y="3352680"/>
            <a:ext cx="455400" cy="227160"/>
            <a:chOff x="1320840" y="3352680"/>
            <a:chExt cx="455400" cy="227160"/>
          </a:xfrm>
        </p:grpSpPr>
        <p:sp>
          <p:nvSpPr>
            <p:cNvPr id="238" name=""/>
            <p:cNvSpPr/>
            <p:nvPr/>
          </p:nvSpPr>
          <p:spPr>
            <a:xfrm>
              <a:off x="1320840" y="3359160"/>
              <a:ext cx="453960" cy="220680"/>
            </a:xfr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22280" y="3352680"/>
              <a:ext cx="453960" cy="220680"/>
            </a:xfr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398600" y="3375000"/>
              <a:ext cx="44280" cy="166680"/>
              <a:chOff x="1398600" y="3375000"/>
              <a:chExt cx="44280" cy="166680"/>
            </a:xfrm>
          </p:grpSpPr>
          <p:sp>
            <p:nvSpPr>
              <p:cNvPr id="241" name=""/>
              <p:cNvSpPr/>
              <p:nvPr/>
            </p:nvSpPr>
            <p:spPr>
              <a:xfrm>
                <a:off x="1398600" y="3387600"/>
                <a:ext cx="44280" cy="154080"/>
              </a:xfr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398600" y="3375000"/>
                <a:ext cx="44280" cy="154080"/>
              </a:xfr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386000" y="3370320"/>
              <a:ext cx="19080" cy="183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4840" y="3392640"/>
              <a:ext cx="19080" cy="1425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457280" y="3368520"/>
              <a:ext cx="318600" cy="185760"/>
              <a:chOff x="1457280" y="3368520"/>
              <a:chExt cx="318600" cy="185760"/>
            </a:xfrm>
          </p:grpSpPr>
          <p:sp>
            <p:nvSpPr>
              <p:cNvPr id="246" name=""/>
              <p:cNvSpPr/>
              <p:nvPr/>
            </p:nvSpPr>
            <p:spPr>
              <a:xfrm>
                <a:off x="1519200" y="3468600"/>
                <a:ext cx="244440" cy="360"/>
              </a:xfr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527120" y="3440160"/>
                <a:ext cx="238320" cy="14400"/>
              </a:xfr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1457280" y="3368520"/>
                <a:ext cx="318600" cy="185760"/>
                <a:chOff x="1457280" y="3368520"/>
                <a:chExt cx="318600" cy="185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457280" y="3368520"/>
                  <a:ext cx="19080" cy="18576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6080" y="3403440"/>
                  <a:ext cx="18720" cy="1112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527120" y="3441600"/>
                  <a:ext cx="248760" cy="14400"/>
                </a:xfr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517760" y="3409920"/>
                  <a:ext cx="29880" cy="96840"/>
                </a:xfr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468440" y="3386160"/>
                  <a:ext cx="20520" cy="146160"/>
                </a:xfr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4" name=""/>
          <p:cNvGrpSpPr/>
          <p:nvPr/>
        </p:nvGrpSpPr>
        <p:grpSpPr>
          <a:xfrm>
            <a:off x="7429680" y="3314880"/>
            <a:ext cx="455400" cy="226800"/>
            <a:chOff x="7429680" y="3314880"/>
            <a:chExt cx="455400" cy="226800"/>
          </a:xfrm>
        </p:grpSpPr>
        <p:sp>
          <p:nvSpPr>
            <p:cNvPr id="255" name=""/>
            <p:cNvSpPr/>
            <p:nvPr/>
          </p:nvSpPr>
          <p:spPr>
            <a:xfrm>
              <a:off x="7429680" y="3321000"/>
              <a:ext cx="453960" cy="220680"/>
            </a:xfrm>
            <a:solidFill>
              <a:srgbClr val="e33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31120" y="3314880"/>
              <a:ext cx="453960" cy="220320"/>
            </a:xfrm>
            <a:solidFill>
              <a:srgbClr val="e33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507440" y="3336840"/>
              <a:ext cx="44280" cy="166680"/>
              <a:chOff x="7507440" y="3336840"/>
              <a:chExt cx="44280" cy="166680"/>
            </a:xfrm>
          </p:grpSpPr>
          <p:sp>
            <p:nvSpPr>
              <p:cNvPr id="258" name=""/>
              <p:cNvSpPr/>
              <p:nvPr/>
            </p:nvSpPr>
            <p:spPr>
              <a:xfrm>
                <a:off x="7507440" y="3349800"/>
                <a:ext cx="44280" cy="153720"/>
              </a:xfrm>
              <a:solidFill>
                <a:srgbClr val="e33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07440" y="3336840"/>
                <a:ext cx="44280" cy="154080"/>
              </a:xfrm>
              <a:solidFill>
                <a:srgbClr val="e33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7494480" y="3332160"/>
              <a:ext cx="19080" cy="184320"/>
            </a:xfrm>
            <a:prstGeom prst="rect">
              <a:avLst/>
            </a:prstGeom>
            <a:solidFill>
              <a:srgbClr val="e33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83320" y="3354480"/>
              <a:ext cx="19080" cy="142920"/>
            </a:xfrm>
            <a:prstGeom prst="rect">
              <a:avLst/>
            </a:prstGeom>
            <a:solidFill>
              <a:srgbClr val="e33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7566120" y="3330720"/>
              <a:ext cx="318960" cy="185760"/>
              <a:chOff x="7566120" y="3330720"/>
              <a:chExt cx="318960" cy="185760"/>
            </a:xfrm>
          </p:grpSpPr>
          <p:sp>
            <p:nvSpPr>
              <p:cNvPr id="263" name=""/>
              <p:cNvSpPr/>
              <p:nvPr/>
            </p:nvSpPr>
            <p:spPr>
              <a:xfrm>
                <a:off x="7629480" y="3430440"/>
                <a:ext cx="244440" cy="360"/>
              </a:xfrm>
              <a:solidFill>
                <a:srgbClr val="e33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37400" y="3402000"/>
                <a:ext cx="238320" cy="14400"/>
              </a:xfrm>
              <a:solidFill>
                <a:srgbClr val="e33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7566120" y="3330720"/>
                <a:ext cx="318960" cy="185760"/>
                <a:chOff x="7566120" y="3330720"/>
                <a:chExt cx="318960" cy="1857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7566120" y="3330720"/>
                  <a:ext cx="19080" cy="185760"/>
                </a:xfrm>
                <a:prstGeom prst="rect">
                  <a:avLst/>
                </a:prstGeom>
                <a:solidFill>
                  <a:srgbClr val="e336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594560" y="3367080"/>
                  <a:ext cx="19080" cy="111240"/>
                </a:xfrm>
                <a:prstGeom prst="rect">
                  <a:avLst/>
                </a:prstGeom>
                <a:solidFill>
                  <a:srgbClr val="e336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637400" y="3405240"/>
                  <a:ext cx="247680" cy="14400"/>
                </a:xfrm>
                <a:solidFill>
                  <a:srgbClr val="e336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626240" y="3373560"/>
                  <a:ext cx="30240" cy="96840"/>
                </a:xfrm>
                <a:solidFill>
                  <a:srgbClr val="e336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77280" y="3349800"/>
                  <a:ext cx="20520" cy="145800"/>
                </a:xfrm>
                <a:solidFill>
                  <a:srgbClr val="e336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1" name=""/>
          <p:cNvSpPr/>
          <p:nvPr/>
        </p:nvSpPr>
        <p:spPr>
          <a:xfrm>
            <a:off x="2710800" y="1076400"/>
            <a:ext cx="1191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A_Mastersecr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0040" y="1038240"/>
            <a:ext cx="1193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MS Mincho"/>
              </a:rPr>
              <a:t>B_Mastersecr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2C67-9C3D-4E3B-9C57-CDB88631F9AF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9840" y="69840"/>
            <a:ext cx="82551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C. Consolidated Nonce-Based Approa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471320" y="3477960"/>
            <a:ext cx="460440" cy="307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100240" y="4535640"/>
            <a:ext cx="858960" cy="1175400"/>
            <a:chOff x="2100240" y="4535640"/>
            <a:chExt cx="858960" cy="117540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2100240" y="4535640"/>
              <a:ext cx="85896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471040" y="5464080"/>
              <a:ext cx="2185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027240" y="1109520"/>
            <a:ext cx="601920" cy="601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994120" y="1800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53320" y="4479840"/>
            <a:ext cx="858960" cy="1175760"/>
            <a:chOff x="7753320" y="4479840"/>
            <a:chExt cx="858960" cy="1175760"/>
          </a:xfrm>
        </p:grpSpPr>
        <p:pic>
          <p:nvPicPr>
            <p:cNvPr id="281" name="" descr=""/>
            <p:cNvPicPr/>
            <p:nvPr/>
          </p:nvPicPr>
          <p:blipFill>
            <a:blip r:embed="rId3"/>
            <a:stretch/>
          </p:blipFill>
          <p:spPr>
            <a:xfrm>
              <a:off x="7753320" y="4479840"/>
              <a:ext cx="85896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8151120" y="5408640"/>
              <a:ext cx="1652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967120" y="4608360"/>
            <a:ext cx="4759200" cy="471600"/>
          </a:xfrm>
          <a:prstGeom prst="leftRightArrow">
            <a:avLst>
              <a:gd name="adj1" fmla="val 50000"/>
              <a:gd name="adj2" fmla="val 200898"/>
            </a:avLst>
          </a:prstGeom>
          <a:solidFill>
            <a:srgbClr val="00b5dd"/>
          </a:solidFill>
          <a:ln w="19080">
            <a:solidFill>
              <a:srgbClr val="00b5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MIKEY-IB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05200" y="3697200"/>
            <a:ext cx="1319400" cy="151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97320" y="4057560"/>
            <a:ext cx="732240" cy="337320"/>
          </a:xfrm>
          <a:prstGeom prst="rect">
            <a:avLst/>
          </a:prstGeom>
          <a:solidFill>
            <a:srgbClr val="bcb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S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03640" y="1270080"/>
            <a:ext cx="4824360" cy="1708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9000" bIns="0" anchor="ctr">
            <a:noAutofit/>
          </a:bodyPr>
          <a:p>
            <a:pPr marL="6945480" indent="-6944040">
              <a:lnSpc>
                <a:spcPct val="100000"/>
              </a:lnSpc>
              <a:tabLst>
                <a:tab algn="l" pos="0"/>
                <a:tab algn="l" pos="6945480"/>
                <a:tab algn="l" pos="7859880"/>
                <a:tab algn="l" pos="8774280"/>
                <a:tab algn="l" pos="9688680"/>
                <a:tab algn="l" pos="10603080"/>
                <a:tab algn="l" pos="11517480"/>
                <a:tab algn="l" pos="12431880"/>
                <a:tab algn="l" pos="13346280"/>
                <a:tab algn="l" pos="14260680"/>
                <a:tab algn="l" pos="15175080"/>
                <a:tab algn="l" pos="16089480"/>
                <a:tab algn="l" pos="17003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 55 Roman"/>
                <a:ea typeface="Arial"/>
              </a:rPr>
              <a:t>MASTERSECRET known only to A/B and K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945480" indent="-694404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6945480"/>
                <a:tab algn="l" pos="7859880"/>
                <a:tab algn="l" pos="8774280"/>
                <a:tab algn="l" pos="9688680"/>
                <a:tab algn="l" pos="10603080"/>
                <a:tab algn="l" pos="11517480"/>
                <a:tab algn="l" pos="12431880"/>
                <a:tab algn="l" pos="13346280"/>
                <a:tab algn="l" pos="14260680"/>
                <a:tab algn="l" pos="15175080"/>
                <a:tab algn="l" pos="16089480"/>
                <a:tab algn="l" pos="17003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MASTERSECRET provisioned into User A/B by KMS (e.g., once a month at the time IBE Private Keys are exchang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945480" indent="-6944040">
              <a:lnSpc>
                <a:spcPct val="100000"/>
              </a:lnSpc>
              <a:tabLst>
                <a:tab algn="l" pos="0"/>
                <a:tab algn="l" pos="6945480"/>
                <a:tab algn="l" pos="7859880"/>
                <a:tab algn="l" pos="8774280"/>
                <a:tab algn="l" pos="9688680"/>
                <a:tab algn="l" pos="10603080"/>
                <a:tab algn="l" pos="11517480"/>
                <a:tab algn="l" pos="12431880"/>
                <a:tab algn="l" pos="13346280"/>
                <a:tab algn="l" pos="14260680"/>
                <a:tab algn="l" pos="15175080"/>
                <a:tab algn="l" pos="16089480"/>
                <a:tab algn="l" pos="17003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 55 Roman"/>
                <a:ea typeface="Arial"/>
              </a:rPr>
              <a:t>Session Key Disco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945480" indent="-694404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6945480"/>
                <a:tab algn="l" pos="7859880"/>
                <a:tab algn="l" pos="8774280"/>
                <a:tab algn="l" pos="9688680"/>
                <a:tab algn="l" pos="10603080"/>
                <a:tab algn="l" pos="11517480"/>
                <a:tab algn="l" pos="12431880"/>
                <a:tab algn="l" pos="13346280"/>
                <a:tab algn="l" pos="14260680"/>
                <a:tab algn="l" pos="15175080"/>
                <a:tab algn="l" pos="16089480"/>
                <a:tab algn="l" pos="17003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</a:rPr>
              <a:t>DF sends MIKEY-IBAKE messages to KMS and requests Session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945480" indent="-694404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6945480"/>
                <a:tab algn="l" pos="7859880"/>
                <a:tab algn="l" pos="8774280"/>
                <a:tab algn="l" pos="9688680"/>
                <a:tab algn="l" pos="10603080"/>
                <a:tab algn="l" pos="11517480"/>
                <a:tab algn="l" pos="12431880"/>
                <a:tab algn="l" pos="13346280"/>
                <a:tab algn="l" pos="14260680"/>
                <a:tab algn="l" pos="15175080"/>
                <a:tab algn="l" pos="16089480"/>
                <a:tab algn="l" pos="17003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KMS decrypts corresponding Nonce and obtains x/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945480" indent="-694404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6945480"/>
                <a:tab algn="l" pos="7859880"/>
                <a:tab algn="l" pos="8774280"/>
                <a:tab algn="l" pos="9688680"/>
                <a:tab algn="l" pos="10603080"/>
                <a:tab algn="l" pos="11517480"/>
                <a:tab algn="l" pos="12431880"/>
                <a:tab algn="l" pos="13346280"/>
                <a:tab algn="l" pos="14260680"/>
                <a:tab algn="l" pos="15175080"/>
                <a:tab algn="l" pos="16089480"/>
                <a:tab algn="l" pos="17003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KMS generates the Session Key and sends it to 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4983120" y="3798720"/>
            <a:ext cx="263520" cy="554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717640" y="1054080"/>
            <a:ext cx="1067040" cy="1193760"/>
          </a:xfrm>
          <a:prstGeom prst="rect">
            <a:avLst/>
          </a:prstGeom>
          <a:noFill/>
          <a:ln w="28440">
            <a:solidFill>
              <a:srgbClr val="f7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75040" y="5773680"/>
            <a:ext cx="26222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_Nonce = AE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A_MASTERSECRE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16760" y="5748480"/>
            <a:ext cx="26222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_Nonce = AE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B_MASTERSECRE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61560" y="37828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5120" y="3581280"/>
            <a:ext cx="1155600" cy="546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1120" y="3745080"/>
            <a:ext cx="639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DM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8120" y="2984400"/>
            <a:ext cx="1663560" cy="1016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60720" y="3822840"/>
            <a:ext cx="16635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458720" y="2959200"/>
            <a:ext cx="447480" cy="330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63840" y="3276720"/>
            <a:ext cx="1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2679840"/>
            <a:ext cx="113004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4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Deli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387520" y="2233440"/>
            <a:ext cx="698760" cy="447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944640" y="315432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048120" y="2984400"/>
            <a:ext cx="1663560" cy="1016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31080" y="4024440"/>
            <a:ext cx="3765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1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10240" y="3300480"/>
            <a:ext cx="3765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1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08000" y="3110040"/>
            <a:ext cx="257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8880" y="2335320"/>
            <a:ext cx="253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26B9-09CA-4CC9-AD9D-22B059605528}" type="slidenum">
              <a:t>8</a:t>
            </a:fld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9840" y="69840"/>
            <a:ext cx="82551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85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D. Split Nonce-Based Approa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1471320" y="3477960"/>
            <a:ext cx="460440" cy="307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100240" y="4535640"/>
            <a:ext cx="858960" cy="1175400"/>
            <a:chOff x="2100240" y="4535640"/>
            <a:chExt cx="858960" cy="117540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2100240" y="4535640"/>
              <a:ext cx="85896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471040" y="5464080"/>
              <a:ext cx="2185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027240" y="1109520"/>
            <a:ext cx="601920" cy="601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994120" y="1800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753320" y="4479840"/>
            <a:ext cx="858960" cy="1175760"/>
            <a:chOff x="7753320" y="4479840"/>
            <a:chExt cx="858960" cy="1175760"/>
          </a:xfrm>
        </p:grpSpPr>
        <p:pic>
          <p:nvPicPr>
            <p:cNvPr id="314" name="" descr=""/>
            <p:cNvPicPr/>
            <p:nvPr/>
          </p:nvPicPr>
          <p:blipFill>
            <a:blip r:embed="rId3"/>
            <a:stretch/>
          </p:blipFill>
          <p:spPr>
            <a:xfrm>
              <a:off x="7753320" y="4479840"/>
              <a:ext cx="85896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8151120" y="5408640"/>
              <a:ext cx="1652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967120" y="4608360"/>
            <a:ext cx="4759200" cy="471600"/>
          </a:xfrm>
          <a:prstGeom prst="leftRightArrow">
            <a:avLst>
              <a:gd name="adj1" fmla="val 50000"/>
              <a:gd name="adj2" fmla="val 200898"/>
            </a:avLst>
          </a:prstGeom>
          <a:solidFill>
            <a:srgbClr val="00b5dd"/>
          </a:solidFill>
          <a:ln w="19080">
            <a:solidFill>
              <a:srgbClr val="00b5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MIKEY-IB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05200" y="3697200"/>
            <a:ext cx="1319400" cy="151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97320" y="4057560"/>
            <a:ext cx="732240" cy="337320"/>
          </a:xfrm>
          <a:prstGeom prst="rect">
            <a:avLst/>
          </a:prstGeom>
          <a:solidFill>
            <a:srgbClr val="bcb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S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1325520" y="1122480"/>
            <a:ext cx="614520" cy="614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87560" y="171288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r’s Datab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03640" y="952560"/>
            <a:ext cx="4824360" cy="2622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9000" bIns="0" anchor="ctr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 55 Roman"/>
                <a:ea typeface="Arial"/>
              </a:rPr>
              <a:t>MASTER 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A_MASTERSECRET and B_MASTERSECRET are pre-provisioned in a mobile and Provider’s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utiger 55 Roman"/>
                <a:ea typeface="Arial"/>
              </a:rPr>
              <a:t>MASTERSECRET not known to the K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ssion Key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DF obtains target's Private Key from K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rutiger 55 Roman"/>
                <a:ea typeface="Arial"/>
              </a:rPr>
              <a:t>DF uses IBE Private Key to decrypt MIKEY-IBAKE messages to obtain key component and target’s Non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DF sends the Target’s Nonce to Provider’s Database and receives decrypted Target’s Secret x/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Frutiger 55 Roman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  <a:ea typeface="Arial"/>
              </a:rPr>
              <a:t>Using key component and received Target’s secret, the DF generates the Session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4983120" y="3798720"/>
            <a:ext cx="263520" cy="5540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952560" y="952560"/>
            <a:ext cx="1117440" cy="1295280"/>
          </a:xfrm>
          <a:prstGeom prst="rect">
            <a:avLst/>
          </a:prstGeom>
          <a:noFill/>
          <a:ln w="28440">
            <a:solidFill>
              <a:srgbClr val="f7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61560" y="37828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3581280"/>
            <a:ext cx="1155600" cy="546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1120" y="3745080"/>
            <a:ext cx="639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DM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8120" y="2984400"/>
            <a:ext cx="1663560" cy="1016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60720" y="3822840"/>
            <a:ext cx="16635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58720" y="2959200"/>
            <a:ext cx="447480" cy="330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63840" y="3276720"/>
            <a:ext cx="144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2679840"/>
            <a:ext cx="113004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4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Deli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387520" y="2220480"/>
            <a:ext cx="419040" cy="460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944640" y="3154320"/>
            <a:ext cx="614160" cy="614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048120" y="2984400"/>
            <a:ext cx="1663560" cy="1016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31080" y="4024440"/>
            <a:ext cx="3765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1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10240" y="3300480"/>
            <a:ext cx="3765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1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08000" y="3110040"/>
            <a:ext cx="257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98880" y="2335320"/>
            <a:ext cx="253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03520" y="939960"/>
            <a:ext cx="1117440" cy="1295280"/>
          </a:xfrm>
          <a:prstGeom prst="rect">
            <a:avLst/>
          </a:prstGeom>
          <a:noFill/>
          <a:ln w="28440">
            <a:solidFill>
              <a:srgbClr val="f700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1738080" y="2259000"/>
            <a:ext cx="549000" cy="434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75040" y="5773680"/>
            <a:ext cx="26222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_Nonce = AE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A_MASTERSECRE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43840" y="5773680"/>
            <a:ext cx="26222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_Nonce = AE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rebuchet MS"/>
              </a:rPr>
              <a:t>B_MASTERSECRE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A2B9-1AF9-4C5A-AFD3-522D89764D80}" type="slidenum">
              <a:t>9</a:t>
            </a:fld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20:35:11Z</dcterms:created>
  <dc:creator>Violeta Cakulev</dc:creator>
  <dc:description/>
  <dc:language>en-US</dc:language>
  <cp:lastModifiedBy>Violeta Cakulev</cp:lastModifiedBy>
  <cp:lastPrinted>2002-04-19T19:23:03Z</cp:lastPrinted>
  <dcterms:modified xsi:type="dcterms:W3CDTF">2011-08-22T15:51:22Z</dcterms:modified>
  <cp:revision>78</cp:revision>
  <dc:subject/>
  <dc:title>Portfolio/Program Name Here  32/38pt with 12pt after paragraph Subheadings 20pt</dc:title>
</cp:coreProperties>
</file>